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A945-F493-49AF-9703-83F7F7A48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3DFF-D4B0-4853-AF29-4FC47B182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7C40-2EFD-4098-B492-364211623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7CD6-8934-4CF8-826D-37409265C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61ABB-9BE6-4F26-8702-268600B14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08F66-C596-4EFD-B96E-E274ABB31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55B6A-C848-4783-8BF9-EC5C3A4FB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B6743-41DF-4BEE-A7FE-F4E763539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413A2-0486-409D-9D34-1F2F04196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BC789-08E5-499A-A7FB-2E14C0004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A3BB1-A911-42D2-A09B-BD0B5F7C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6D1D-907B-4E72-A425-B22E49E51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D1C04-EDC9-4A92-A9EF-1DE15DE9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5298A-3413-48B6-9C59-3913A5FC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E1A3E-C46C-4BED-B83C-6CD1EF5D0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76043-92FD-4950-9381-E7E14FCEF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BB702-0096-49E1-9B21-4D4ECE16E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B8DE-47B3-4EF5-B3D6-53D596FE4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26DA-A5B3-4F64-A60F-C29B07083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B61E-972D-442D-9C68-30A2DFC6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06D1-23CE-425E-8E91-0294334AA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8FE1-7EE5-439E-839A-104A155B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9E05-B869-4CA3-A286-A159E81A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9859-7343-4BD8-8221-CF9E9C4C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541FA-E405-47DE-8AE0-3489886E8A6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B834A-F3DD-4DE3-A519-210A466133D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Метеора – монастыри, парящие в воздухе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ыполнила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ученица 9 класса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МОУ «Русская гимназия»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Семенчина Елизавет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051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4048200" cy="4191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В настоящее время монастырский комплекс Метеора включает в себя 6 действующих монастырей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Почему  всегда люди стремились подняться в воздух?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Потому что их манила жажда открытий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Потому что хотели пойти наперекор судьбе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Стремились утвердить себя в мире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Искали уединения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Хотели уйти подальше от мир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Что такое Метеора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Комплекс православных монастырей </a:t>
            </a: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Метеоры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в Фессалии (центральная часть Греции) – одна из главных достопримечательностей страны. Обители иноков построены на самых вершинах высоких отвесных скал. Этим и объясняется название комплекса – монастыри Метеоры, которое в переводе с греческого означает “парящие в воздухе”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Для чего и кем они создавались?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80880" y="1219320"/>
            <a:ext cx="4267440" cy="5410080"/>
            <a:chOff x="380880" y="1219320"/>
            <a:chExt cx="4267440" cy="5410080"/>
          </a:xfrm>
        </p:grpSpPr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380880" y="1219320"/>
              <a:ext cx="4267440" cy="541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 txBox="1"/>
            <p:nvPr/>
          </p:nvSpPr>
          <p:spPr>
            <a:xfrm>
              <a:off x="380880" y="1219320"/>
              <a:ext cx="4267440" cy="541008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XI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еке на неприступные скалы, спасаясь от мирской суеты и набегов захватчиков, стали собираться монахи, чтобы служить Богу здесь, между небом и землей. Первым из них считается некий Варнава, построивший здесь небольшой скит Святого Духа. Постепенно скалы все больше обживались: подвижники селились в пещерах и расщелинах, проводя дни в созерцании и молитвах,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Монашеское государство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 течение XV–XVI веков Великий Метеор рос и креп, а на соседних скалах появлялись все новые и новые монастыри. Так образовалось уникальное «монашеское государство» со своим особым укладом жизни. Всего было построено двадцать четрые «парящих» монастыря. В каждом из них помимо монашеских келий, церквей и часовен были общая трапезная, кухня, погреб для хранения продуктов, цистерны для хранения воды (монахи собирали дождевую воду), костницы (оссуарии), а в некоторых монастырях ещё и библиотеки с богатым собранием рукописных и печатных книг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9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6094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Великий Метеор был почти неприступен. Попасть в него можно было лишь по длинной лестнице, которую монахи убирали при малейшей угрозе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Со временем вместо лестниц стали использовать специальное подъемное устройство: посетитель садился в сетку, привязанную к длинному канату, а монахи наверху крутили колесо, поднимая гостя в монастырь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648320" y="457200"/>
            <a:ext cx="4267080" cy="6095880"/>
            <a:chOff x="4648320" y="457200"/>
            <a:chExt cx="4267080" cy="6095880"/>
          </a:xfrm>
        </p:grpSpPr>
        <p:pic>
          <p:nvPicPr>
            <p:cNvPr id="133" name="" descr=""/>
            <p:cNvPicPr/>
            <p:nvPr/>
          </p:nvPicPr>
          <p:blipFill>
            <a:blip r:embed="rId1"/>
            <a:stretch/>
          </p:blipFill>
          <p:spPr>
            <a:xfrm>
              <a:off x="4648320" y="457200"/>
              <a:ext cx="4267080" cy="609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 txBox="1"/>
            <p:nvPr/>
          </p:nvSpPr>
          <p:spPr>
            <a:xfrm>
              <a:off x="4648320" y="457200"/>
              <a:ext cx="4267080" cy="609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buClr>
                  <a:srgbClr val="eec85e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Монашеская аскез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В монастыре уединение и молчание являются законом. На этих неплодородных скалистых горах, которые стали дворцами для тысячей отшельников – аскетов, научились православные монахи быть мудрыми в мыслях и покорными в самосознании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Внутри их живет другой мир, свободный от насилия сил природы и не связанный со временем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Какое значение несут в себе эти памятники культуры в настоящее время?</a:t>
            </a:r>
            <a:br>
              <a:rPr sz="40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 1988 году монастыри были включены в список объектов всемирного наследия. Метеорские скалы — геологический феномен. Они достигают в высоту 600 метров над уровнем моря и являются редким геологическим явлением. Они образовались более 60 миллионов лет назад и являлись каменистым дном доисторического моря, находившегося на месте равнины.[1] В результате воздействия воды, ветра и перепадов температур получились массивные, как бы зависшие в воздухе каменные столбы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Художественное наследи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457200" y="1600200"/>
            <a:ext cx="4038480" cy="4648320"/>
            <a:chOff x="457200" y="1600200"/>
            <a:chExt cx="4038480" cy="4648320"/>
          </a:xfrm>
        </p:grpSpPr>
        <p:pic>
          <p:nvPicPr>
            <p:cNvPr id="141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4038480" cy="464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 txBox="1"/>
            <p:nvPr/>
          </p:nvSpPr>
          <p:spPr>
            <a:xfrm>
              <a:off x="457200" y="1600200"/>
              <a:ext cx="4038480" cy="4648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eec85e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Огромное наследие представляют собой и сами монастыри, украшенные древними фресками в стиле Критской иконописной школы, имеющие ризницы и богатые библиотеки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Монастырь Тераморф Метеора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XVI 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век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тудент</cp:lastModifiedBy>
  <dcterms:modified xsi:type="dcterms:W3CDTF">2001-12-31T21:36:5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